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58E1-79E1-4252-BE10-777D10B62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85B4-6389-495F-B5A1-2FB0C470D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81D-84C3-4CBA-8137-A46F93C9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F1A-D273-4233-850C-6DF54A11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8A0-5365-45AC-8D40-A5E0B14C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2BE-4B9F-4B37-8DC4-00DC649C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086-7452-4897-8067-5BB33046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93B-7FD6-4E99-8EAE-FE512009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F09-2DAF-4B58-9BCF-E46A4262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7CC-58F6-426F-B971-9754696F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BE9-7561-4357-AFB0-7F6E1CC1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7EE-8408-4B96-BF00-95060972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360-08AA-4950-94CB-DE00849C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072-F0A2-4670-ADC7-2A07BD02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6D6A-904F-4D6C-8EC7-8253102E62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Project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7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2"/>
          <p:cNvSpPr/>
          <p:nvPr/>
        </p:nvSpPr>
        <p:spPr>
          <a:xfrm>
            <a:off x="6781680" y="3048120"/>
            <a:ext cx="2133720" cy="21333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 x 25 = Yr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25 x 15 = Yr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375 x 5 = Yr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6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Global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and Output/impact levels -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(management indica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and approval process by the USAID mission in Qr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to six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nual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standardized forms for better reporting and monit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28600" y="1752480"/>
          <a:ext cx="8686800" cy="484668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1447560"/>
                <a:gridCol w="144792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ice hectares under improved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individuals who have received USG support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52280" y="1576440"/>
          <a:ext cx="8686800" cy="502920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ood security private enterprises (for profit), producers organizations, water users associations, women's groups, trade and business associations, and community-based organizations (CBOs) receiving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beneficiaries with home gardens or alternate crops as a proxy for access to nutritious foods and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Project Custom (Management)indicator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280" y="1576440"/>
          <a:ext cx="8686800" cy="419112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other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grand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pillover households using improved technologies from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8T16:22:07Z</dcterms:modified>
  <cp:revision>26</cp:revision>
  <dc:subject/>
  <dc:title>PowerPoint Presentation</dc:title>
</cp:coreProperties>
</file>